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ACF-50B9-4A22-A2D8-FFD5DF3A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FEB-228F-42BA-B5EA-8F93972B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6FD-4C70-4A1C-8932-64F9647A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5C5-B13B-4801-AD2C-8F2D9768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9AB-9C5E-4E40-9C09-2E37136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FE2-C674-4483-8528-14BBA2A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E97-1BA6-4DBA-839C-1DDBD4A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F2E-8FCE-4E32-BC11-E6F98E2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825-9ACB-4C73-A729-C0F345FD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BD0-E6A3-4683-95FD-A03D0B8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98A-F12D-46E1-82BD-5BF069C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FD5-A0B5-45A5-8F1C-E5D579CA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A24-B80D-427E-B6C3-0668A523EE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abaoku.com/sucai/ziranlei/hf/web/6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Important and difficult points in Unit 2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s there anything good 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. I want to look at what’s on this week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0574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用法灵活多变。上述两句构成词组“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”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表示“正在进行”或 “正在上演”。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是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4197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情景变化时就要注意其意义了。例如：街拐角发生了交通事故，有人问：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on?”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相当于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happening”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或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 has happened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后接表示组织的名词时，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转化为介词，可表示：“……中的一员” 或 “为……效力”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our city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419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China Da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4. As soon as the reporters know what to write about,  they get down to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记者们一旦知道所要报道的事件，就着手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et down to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认真开始”，要注意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介词，后面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词、代词或  –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While the weather is fine, I must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repairing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Now let’s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usines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and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 a time for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a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ace-to-face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约定时间进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面对面的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采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1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fix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及物动词，意思是：决定，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733920"/>
            <a:ext cx="6782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 They’v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d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or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er  sister’s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Sh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price at 3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038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1219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-to-face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与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80880" y="2438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38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64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分析：有连字符的词组只能作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39560"/>
            <a:ext cx="1752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. All the people who work on a newspaper must be able to work 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报社里所有工作人员都必须能够快速地进行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638440"/>
            <a:ext cx="8915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1" lang="zh-CN" sz="3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致力于”、“从事于” ，许多时候可以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互换使用。但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从事于（某工作或创作）”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干（某事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)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或“研究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解决（难题）等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.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164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1). He is said to be worki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on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a new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2). He still work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s hi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. They go to the newspaper’s own library to look up any information that they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他们去报社的图书馆查找他们所需要的任何资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“查处” “找出” 解，使用过程中同学们很容易出现错误。例如：试翻译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410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如果不知道这个词的含义，可以去查字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58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7948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1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up the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2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it up the dictionary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191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指词典或是参考书中查处单词或事实，它的宾语应该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词或事实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，而不是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7.  Reporters are then sent to cover the ev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然后派出记者去采访这些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ver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新闻术语，作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采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、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报道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解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ver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词义广泛，含义多变。请看下列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81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. H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mself with a blan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. The villag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by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. The cit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twenty square m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. The dictionary does no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ll the English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. The hor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wenty miles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8. It is a daily newspaper, appearing from Monday to Saturday with a Sunday edition of Business Weekly each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这是一份日报，每周星期一到星期六出版，星期天出《 商业周刊 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33680"/>
            <a:ext cx="914400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14479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 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1).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ppearing  from…each week.-ing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短语作定语，相当于一个非限制性定语从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 appear from….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438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My birthday party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sting about six hours,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ended this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733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weekl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周报，周刊，是名词，也可以作形容词，其他类似的词还有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aily, monthly, y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434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also popular with students of Englis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09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86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ap (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说唱音乐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s very popular wit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young peop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.in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inform sb. (of sth.) (abo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偶尔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informed me of my mother’s co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inform sb +that clause/wh-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was informed when he would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inform against/on s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告发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检举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揭发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I can’t believe. It’s he who inform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/against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14400" y="640440"/>
            <a:ext cx="915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.relate vt/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relate sth to sth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… 联系起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can’t relate the money to his f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relate to sb/st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…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 相处地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The letter relates to the secret of his d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can’t relate to his novel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e dosen’t relate very well to her mother-in-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02680"/>
            <a:ext cx="915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relate sth.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The child related (to us) the 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)be relat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A survey shows that he is related to the murder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7040" y="595800"/>
            <a:ext cx="877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.present vt.  adj. 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呈现，描述，表达，提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s love for peace in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eport should have bee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uch so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 to sb.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b. with sth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赠送，颁发，授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(esp. at a formal or official occa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David’s manage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m with the award for best sales last 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248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sb to sb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引见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(to sb of higher rank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He had the honour of being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d to the Quee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onself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出席，到场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I must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myself at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的，出席的→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bs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All students are present at the 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Linda was absent from school for illness yeste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t present/at the present tim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，此刻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or the presen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暂时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638640"/>
            <a:ext cx="870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.adap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…适应…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 to sth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eself to sth.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ittle cat to his new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yself to this new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plants ar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 the hot clim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写，改编，改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for begin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e’ll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uilding to our special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250200"/>
            <a:ext cx="9123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4.fulfill 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行，履行，满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The conditions of the contract must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exa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ment n.(u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现，履行，满足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After years, our plans have come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gets a great sense of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om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ed ﹠ fulfi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38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.tolerate v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容忍，忍耐，宽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You don’t need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ny teachers said they couldn’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ong hours’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*n. tolerance   adj. tolerant 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Luckily, my parents are tolerant of my choice of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4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2160" y="1828800"/>
            <a:ext cx="96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liab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.    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source of the informa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840" y="350532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on\rely upon sb.\sth.(to do sth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elied o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your coming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410080"/>
            <a:ext cx="62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with sb.\s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can’t compare with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360" y="692280"/>
            <a:ext cx="8820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Newspapers and other media do ___________ simply record what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纸和其它媒体不仅仅是记录发生的事情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Experienced editors and reporters _____________________________ what events to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验丰富的编辑和记者根据自己了解的情况来决定报道什么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informed decision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9840"/>
            <a:ext cx="8893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hey agreed to switch rol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be the interviewees ____________ intervie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同意变换一下角色，做一次被采访者，而不是采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The editor’s job is to 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</a:rPr>
              <a:t>________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interesting to the r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辑的工作是把报纸办得平衡协调，使读者感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840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the newspa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38360"/>
            <a:ext cx="882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A reporter begins by contacting the people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</a:rPr>
              <a:t>＿＿＿＿＿＿＿＿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d then prepares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者开始联络被采访者，然后准备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 intervie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76720"/>
            <a:ext cx="806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The young woman tries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ter studying abroa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年轻女士试图适应留学回国后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200400"/>
            <a:ext cx="2673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ap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960" y="3759120"/>
            <a:ext cx="2895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 new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428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I want to write about people who you seldom read about, for example people who have AIDS or wh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＿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写关于你们在报纸上分手读到的文章，比如爱滋病患者或者毒品瘾君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We shouldn’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happen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difficult for people to accept some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人们难以接受某些报道，我们也不应该忽视所发生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371600"/>
            <a:ext cx="457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adapted to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152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387360"/>
            <a:ext cx="8820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９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media can often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and 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situations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where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 help i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媒体常常能够帮助解决问题，让大家关注需要帮助的境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０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result is a better understanding of the world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结果是大家能够对世界的方方面面有更好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33520"/>
            <a:ext cx="1600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0880"/>
            <a:ext cx="2666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p 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90720"/>
            <a:ext cx="2590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06668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raw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724280"/>
            <a:ext cx="358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l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6160" y="333360"/>
            <a:ext cx="87469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More than ninety responsible and caring citizens ________________________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今天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多位富有爱心和责任心的公民发出了自己的呼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200400"/>
            <a:ext cx="867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A website ____________a newspaper. Both of them _______________selling 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网站和报纸是相似的，他们都是靠销售广告来赚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838080"/>
            <a:ext cx="5181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their voices h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00400"/>
            <a:ext cx="2819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imilar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3581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mone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20440" y="1159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4280" y="125280"/>
            <a:ext cx="46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这件蓝色的衬衫怎么样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60" y="8460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lue shi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880" y="149400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宁愿选那件白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5080" y="2070000"/>
            <a:ext cx="72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ould rather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hite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560" y="2644920"/>
            <a:ext cx="29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看法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314964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’s your opin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920" y="386712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为我们不应该买那辆二手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470480"/>
            <a:ext cx="87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 don’t thin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 should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secondh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7400" y="54514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你要选择自行车而不是地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000" y="6027840"/>
            <a:ext cx="92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y do you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cycl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b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68160" y="110808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5720" y="62064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说服他会更好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" y="141300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t would be bett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suad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249228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健康要比金钱更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3429000"/>
            <a:ext cx="92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haps health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s more important 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2783160"/>
            <a:ext cx="76201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itors and reporters will discus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events to report,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report them and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Editors will listen to reporters’ ideas and give sugg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231920"/>
            <a:ext cx="8076960" cy="1520280"/>
            <a:chOff x="533520" y="1231920"/>
            <a:chExt cx="8076960" cy="1520280"/>
          </a:xfrm>
        </p:grpSpPr>
        <p:sp>
          <p:nvSpPr>
            <p:cNvPr id="177" name=""/>
            <p:cNvSpPr/>
            <p:nvPr/>
          </p:nvSpPr>
          <p:spPr>
            <a:xfrm>
              <a:off x="609480" y="1231920"/>
              <a:ext cx="8001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. How do reporters decide what the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re going to write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60948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sure that…; make sur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会采取一切措施确保您的访问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all the measu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you enjoy your vis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应采取措施确保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take measures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ss/vic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8920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with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is answ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teacher’s and found he had made a mist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to 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oe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lover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 t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 rose in his po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456876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od prices are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down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bring d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lower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th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ais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prices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offer a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同意提升价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gre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ring u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都同意马上出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ll agree to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t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star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ght 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3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elate to sb./sth.              relate A t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些家长不十分理解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parents don’t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heir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文章谈到了很多社会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article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s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any social problem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发现很难把真相和这个人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und it difficul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rel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even if/ th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尽管我已经卖了房子，我还要把我的事业继续下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Even thoug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I have sold my house, I will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kee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my business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g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rather than = instea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要冷饮，而不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will have a cold drink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nstead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帮助他学习艺术而不是劝说他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going to help him to learn art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uading him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give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adapt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发现适应新生活并不容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nd it not easy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dapt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w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67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With real pa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以极大的热情完成了这部电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finished the film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with real pass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be addicted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儿子十分沉迷于电脑游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 son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s addict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mputer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90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 Robert is said  _____  abroad, but I don’t know what country he studied in.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( 98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年广东题 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have studied         B. to study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 to be studying          D. to have been stud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 I can hardly imagine Peter ____ across the Atlantic Ocean in five days. (  9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题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sail   B. to sail    C. sailing    D. to have s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7240" y="304920"/>
            <a:ext cx="43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试题精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0760" y="40068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 ---Let me tell you something about the journal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Don’t you remember _____ me the story yesterday.  ( 99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上海题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ld    B. telling     C. to tell    D. to ha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600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0600" y="76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There’s a good film ___ the cinema. Would you like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       B. at        C. at on          D. on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The book is said ____ into several other languages alre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translate              B. to be translate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have translated   D. to have been trans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8580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733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320" y="120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3055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Would you like___ there by yourself or would you like me ____ with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go; to go                  B. going; go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go going                 D.going;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4.---What about ___ a film this evening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see      B. seeing       C. see       D. 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 Could you tell me_____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what to do it next     B. how to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what to do next        D. how I should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6.The young people got down ___ trees, as soon as they arrived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plant                      B. to plant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plant                         D. pla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5228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73392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20" y="457200"/>
            <a:ext cx="898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换位置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换改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r glasses have been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this is m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ny vot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Lab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280" y="2819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f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\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920" y="4038480"/>
            <a:ext cx="46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关、电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urn on the ligh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8600"/>
            <a:ext cx="914400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.Please____ the spelling of the word in your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look for                B. look aft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look up                D. loo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.Reporters from all parts of the world came to ___ the big e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watch    B. remember     C. enjoy     D.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883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It was the ___ invitation and it had just arrived from the U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ast         B. late        C. latest         D.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0.All the people who _____ the project tried their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orked on                  B. did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wrote at                    D. mad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8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1.It’s no use ___ a  lot  without doing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talk                            B. talk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talk about                  D. talking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2.She reached the top of the hill and stopped ____ on a big rock by the side of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est    B. resting     C. to rest    D. from 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3. Mr.Wang is popular ____ her neighb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  B. for    from   D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8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410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401760"/>
            <a:ext cx="8458200" cy="62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4.—Do you  ___   to the cinem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That sounds like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feel like going               B. feel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feel going                      D. feel like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5._____ new words and useful expressions ___ very useful to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earning; is                 B. Learning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Learn ; is                   D. Learn;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00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401760"/>
            <a:ext cx="8915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6.---Would you like to go to the Sl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eauty Castle tomorr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______. But I can’t tomorrow. 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No; Shall we make it some oth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Yes; What time shall we 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I’d love to; Will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I wish I could; What about some othe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8088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7.It took me a long time but I just didn’t know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ow to write about      B. what to writ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write about             D. to write about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8.The most important international news is usually _____ the front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in        B. on         C. at         D.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7631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9.The journalist telephoned the very important man and ____ time ___ a face-to-face intervi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settled a ; for             B. fixed a ; for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fixed; for                  D. fixed a ;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0.After he had collected enough information, he got down to ___ the re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write   B. written   C. writing   D. be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762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5181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52280"/>
            <a:ext cx="87631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1.His article _____ yesterday’s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wrote on                   B. appeared i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written on                D. was appear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.This magazine is ____ most of the young peo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popular with                   B. popular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published with               D. welcomed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3.______ up early is a very good ha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Get       B. Got        C. Gets       D. 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763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6668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56272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44360"/>
            <a:ext cx="89154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4.His wife advised him to stop _____, but he wouldn’t li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smoke               B. to smok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smoked            D. smo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5.---What’s____ the cinema this ev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I’ve got no idea, but there’s ___ , I think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on at; nothing latest new o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on at; nothing new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be in;nothing new show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to be shown; new something la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8640" y="76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971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95360"/>
            <a:ext cx="9067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战期间，很多国家遭受重大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十分沉迷于解决数学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应尽快适应新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尽管我采访过很多名人，这个普通女孩是最可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执行计划，而不是改变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采取措施确保你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者们不太了解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答应在班中举行一场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44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relat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有联系或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be addicted t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…上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on all sid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方面，到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nine out of te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之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keep the newspaper balanc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报纸保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in an organized w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理地，有组织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adapt to a new li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应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draw attention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look up to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1080" y="12193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ank you and Goodby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5920"/>
            <a:ext cx="856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fall in love wi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上，喜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more than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为，非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current affa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.change one’s mi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.people to be interview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采访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burn d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.be fir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解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.face difficulti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临困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inform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知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.even if / 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，尽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.rob sb /a place of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某人某地抢走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.without effor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费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4572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They are said to b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y are said to have visi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said 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y have visited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00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78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b ﹢be +said 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said that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600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据说……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听说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54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用以下结构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914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say  they ar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38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据说他们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410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The bus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tar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in ten 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339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train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leave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t 7 o’clock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句话用一般现在时表示将来的时间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般将来时表示时间表上已经确定好或安排好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. What ti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oe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he correct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35:42Z</dcterms:created>
  <dc:creator>jinma</dc:creator>
  <dc:description/>
  <dc:language>en-US</dc:language>
  <cp:lastModifiedBy>jinma</cp:lastModifiedBy>
  <dcterms:modified xsi:type="dcterms:W3CDTF">2005-11-06T15:28:21Z</dcterms:modified>
  <cp:revision>9</cp:revision>
  <dc:subject/>
  <dc:title>PowerPoint 演示文稿</dc:title>
</cp:coreProperties>
</file>